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816-68D3-4156-9659-0FC6A1E6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0DF-8D4C-44F8-9FD8-8073D2F8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FB5-BC27-4FF6-838A-8E676649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3BC-32A4-4DBD-9884-9C26D245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C27-50EA-4C53-94F0-30514B1D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216-AF8A-45CD-9314-ABEE4098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FBE-D6B6-4A19-A261-285E98DB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45A-1117-4B46-B959-18C4EB5A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362-9A48-4C31-8B5E-57B057E2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03C-CE00-4B9C-8164-0F3AB96F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A14-836D-4292-B6DF-532989A9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837-7408-4573-AEA1-AC512964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6DF6-BC0A-4BF2-BE18-FA4BABE76CE0}" type="datetime">
              <a:rPr b="0" lang="fr-FR" sz="1200" spc="-1" strike="noStrike">
                <a:solidFill>
                  <a:srgbClr val="89898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CCA0-324B-42C4-BBA5-79E4367A1921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1" descr="temp ppt SV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ZoneTexte 4"/>
          <p:cNvSpPr/>
          <p:nvPr/>
        </p:nvSpPr>
        <p:spPr>
          <a:xfrm>
            <a:off x="385920" y="1555920"/>
            <a:ext cx="850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70c0"/>
                </a:solidFill>
                <a:latin typeface="Arial"/>
              </a:rPr>
              <a:t>صحة الجس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238880" y="3429000"/>
            <a:ext cx="25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</a:t>
            </a:r>
            <a:r>
              <a:rPr b="1" lang="ar-MA" sz="12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لمادة</a:t>
            </a:r>
            <a:r>
              <a:rPr b="0" lang="ar-M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1" lang="ar-SA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علوم الحياة والأرض</a:t>
            </a:r>
            <a:r>
              <a:rPr b="0" lang="ar-M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-642960" y="3487680"/>
            <a:ext cx="259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12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مستوى : </a:t>
            </a:r>
            <a:r>
              <a:rPr b="1" lang="ar-SA" sz="14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ثالثة ثانوي إعدا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E065-B485-46FB-9ED6-38310EF7EC36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numéro de diapositive 1"/>
          <p:cNvSpPr/>
          <p:nvPr/>
        </p:nvSpPr>
        <p:spPr>
          <a:xfrm>
            <a:off x="6553080" y="6570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FB17-F5CF-47FA-9456-D017220845F8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128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ZoneTexte 7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ZoneTexte 8"/>
          <p:cNvSpPr/>
          <p:nvPr/>
        </p:nvSpPr>
        <p:spPr>
          <a:xfrm>
            <a:off x="1019160" y="5776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دخين يضاعف احتمال الإصابة بالسرطان الرئ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e 12"/>
          <p:cNvGrpSpPr/>
          <p:nvPr/>
        </p:nvGrpSpPr>
        <p:grpSpPr>
          <a:xfrm>
            <a:off x="1933560" y="1076400"/>
            <a:ext cx="5943600" cy="4457520"/>
            <a:chOff x="1933560" y="1076400"/>
            <a:chExt cx="5943600" cy="4457520"/>
          </a:xfrm>
        </p:grpSpPr>
        <p:pic>
          <p:nvPicPr>
            <p:cNvPr id="135" name="Picture 1" descr="C:\Documents and Settings\Assistant\سطح المكتب\Image23.jpg"/>
            <p:cNvPicPr/>
            <p:nvPr/>
          </p:nvPicPr>
          <p:blipFill>
            <a:blip r:embed="rId1"/>
            <a:stretch/>
          </p:blipFill>
          <p:spPr>
            <a:xfrm>
              <a:off x="1933560" y="1076400"/>
              <a:ext cx="594360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ZoneTexte 10"/>
            <p:cNvSpPr/>
            <p:nvPr/>
          </p:nvSpPr>
          <p:spPr>
            <a:xfrm>
              <a:off x="3008520" y="4570920"/>
              <a:ext cx="134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رئة مدخ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ZoneTexte 11"/>
            <p:cNvSpPr/>
            <p:nvPr/>
          </p:nvSpPr>
          <p:spPr>
            <a:xfrm>
              <a:off x="5741640" y="4570920"/>
              <a:ext cx="161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رئة غير مدخ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1"/>
          <p:cNvSpPr/>
          <p:nvPr/>
        </p:nvSpPr>
        <p:spPr>
          <a:xfrm>
            <a:off x="6553080" y="6570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E959-0D71-485A-A88D-ECF99C02D8C1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140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ZoneTexte 7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ZoneTexte 8"/>
          <p:cNvSpPr/>
          <p:nvPr/>
        </p:nvSpPr>
        <p:spPr>
          <a:xfrm>
            <a:off x="490680" y="5997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التهابات الرئوية أمراض جرثومية معدية تنتشر بواسطة السعال فتسبب العدو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" descr="C:\Documents and Settings\Assistant\سطح المكتب\untitled.bmp"/>
          <p:cNvPicPr/>
          <p:nvPr/>
        </p:nvPicPr>
        <p:blipFill>
          <a:blip r:embed="rId1"/>
          <a:stretch/>
        </p:blipFill>
        <p:spPr>
          <a:xfrm>
            <a:off x="2444760" y="1198440"/>
            <a:ext cx="49705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numéro de diapositive 1"/>
          <p:cNvSpPr/>
          <p:nvPr/>
        </p:nvSpPr>
        <p:spPr>
          <a:xfrm>
            <a:off x="4572000" y="649296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FA0E-8702-414A-8451-7EC379CA6D9E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149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ZoneTexte 7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ZoneTexte 8"/>
          <p:cNvSpPr/>
          <p:nvPr/>
        </p:nvSpPr>
        <p:spPr>
          <a:xfrm>
            <a:off x="5114880" y="9144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- سبل الوقاية منها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9"/>
          <p:cNvSpPr/>
          <p:nvPr/>
        </p:nvSpPr>
        <p:spPr>
          <a:xfrm>
            <a:off x="6248520" y="6396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لقي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" descr="C:\Documents and Settings\Assistant\سطح المكتب\hikers.jpg"/>
          <p:cNvPicPr/>
          <p:nvPr/>
        </p:nvPicPr>
        <p:blipFill>
          <a:blip r:embed="rId1"/>
          <a:stretch/>
        </p:blipFill>
        <p:spPr>
          <a:xfrm>
            <a:off x="5224320" y="1581120"/>
            <a:ext cx="3810240" cy="2381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1"/>
          <p:cNvSpPr/>
          <p:nvPr/>
        </p:nvSpPr>
        <p:spPr>
          <a:xfrm>
            <a:off x="5076720" y="3957480"/>
            <a:ext cx="40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نزهة في الطبيعة حيث الهواء النق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Documents and Settings\Assistant\سطح المكتب\sport_enfants.jpg"/>
          <p:cNvPicPr/>
          <p:nvPr/>
        </p:nvPicPr>
        <p:blipFill>
          <a:blip r:embed="rId2"/>
          <a:stretch/>
        </p:blipFill>
        <p:spPr>
          <a:xfrm>
            <a:off x="1347840" y="1028880"/>
            <a:ext cx="3809880" cy="3085920"/>
          </a:xfrm>
          <a:prstGeom prst="rect">
            <a:avLst/>
          </a:prstGeom>
          <a:ln w="0">
            <a:noFill/>
          </a:ln>
        </p:spPr>
      </p:pic>
      <p:sp>
        <p:nvSpPr>
          <p:cNvPr id="159" name="ZoneTexte 13"/>
          <p:cNvSpPr/>
          <p:nvPr/>
        </p:nvSpPr>
        <p:spPr>
          <a:xfrm>
            <a:off x="1795320" y="3962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قيام بتمارين رياض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C:\Documents and Settings\Assistant\سطح المكتب\kamar_23.jpg"/>
          <p:cNvPicPr/>
          <p:nvPr/>
        </p:nvPicPr>
        <p:blipFill>
          <a:blip r:embed="rId3"/>
          <a:stretch/>
        </p:blipFill>
        <p:spPr>
          <a:xfrm>
            <a:off x="2257560" y="4462560"/>
            <a:ext cx="1923840" cy="1931760"/>
          </a:xfrm>
          <a:prstGeom prst="rect">
            <a:avLst/>
          </a:prstGeom>
          <a:ln w="0">
            <a:noFill/>
          </a:ln>
        </p:spPr>
      </p:pic>
      <p:sp>
        <p:nvSpPr>
          <p:cNvPr id="161" name="ZoneTexte 15"/>
          <p:cNvSpPr/>
          <p:nvPr/>
        </p:nvSpPr>
        <p:spPr>
          <a:xfrm>
            <a:off x="1395360" y="63961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جنب التدخ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C:\Documents and Settings\Assistant\سطح المكتب\vaccin.jpg"/>
          <p:cNvPicPr/>
          <p:nvPr/>
        </p:nvPicPr>
        <p:blipFill>
          <a:blip r:embed="rId4"/>
          <a:stretch/>
        </p:blipFill>
        <p:spPr>
          <a:xfrm>
            <a:off x="5867280" y="4395960"/>
            <a:ext cx="26211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7290-0C17-46C1-94D8-3C395013936A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165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ZoneTexte 7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ZoneTexte 5"/>
          <p:cNvSpPr/>
          <p:nvPr/>
        </p:nvSpPr>
        <p:spPr>
          <a:xfrm>
            <a:off x="1204920" y="291132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ماهي الأخطار المهددة للجهاز العصبي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وماهي سبل الوقاية منها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1"/>
          <p:cNvSpPr/>
          <p:nvPr/>
        </p:nvSpPr>
        <p:spPr>
          <a:xfrm>
            <a:off x="6553080" y="6593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B6B5-05FA-430D-97ED-A1B691E135FC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173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ZoneTexte 7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ZoneTexte 8"/>
          <p:cNvSpPr/>
          <p:nvPr/>
        </p:nvSpPr>
        <p:spPr>
          <a:xfrm>
            <a:off x="1676520" y="9428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- الأخطار المهددة للجهاز العصب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9"/>
          <p:cNvSpPr/>
          <p:nvPr/>
        </p:nvSpPr>
        <p:spPr>
          <a:xfrm>
            <a:off x="343080" y="5543640"/>
            <a:ext cx="883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اعتداءات الحسية كالضجيج والأضواء القوية، فهي تسبب اضطرابات عصبية كانخفاض القدرة على التركيز، التوتر، الصمم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عدم أخذ القسط الكافي من النوم يسبب الإرهاق العصب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2" descr="C:\Documents and Settings\Assistant\سطح المكتب\S5004852.jpg"/>
          <p:cNvPicPr/>
          <p:nvPr/>
        </p:nvPicPr>
        <p:blipFill>
          <a:blip r:embed="rId1"/>
          <a:stretch/>
        </p:blipFill>
        <p:spPr>
          <a:xfrm>
            <a:off x="3124080" y="1793880"/>
            <a:ext cx="36576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Espace réservé du numéro de diapositive 1"/>
          <p:cNvSpPr/>
          <p:nvPr/>
        </p:nvSpPr>
        <p:spPr>
          <a:xfrm>
            <a:off x="6567480" y="6602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E729-B482-4802-A261-8C2DD23019D0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183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ZoneTexte 7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ZoneTexte 8"/>
          <p:cNvSpPr/>
          <p:nvPr/>
        </p:nvSpPr>
        <p:spPr>
          <a:xfrm>
            <a:off x="838080" y="5783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هلاك المخدرات والكحول والتدخين يؤدي إلى تغير في الإحساسات (الكآبة،إزالة الألم....) وفي السلوكات بسبب الإدمان والإقلاع عنه صع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C:\Documents and Settings\Assistant\سطح المكتب\cms-image-000016016.jpg"/>
          <p:cNvPicPr/>
          <p:nvPr/>
        </p:nvPicPr>
        <p:blipFill>
          <a:blip r:embed="rId1"/>
          <a:stretch/>
        </p:blipFill>
        <p:spPr>
          <a:xfrm>
            <a:off x="1752480" y="1752480"/>
            <a:ext cx="654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68BC-EDD3-4DD9-8F24-7AE486B7402C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192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ZoneTexte 7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ZoneTexte 8"/>
          <p:cNvSpPr/>
          <p:nvPr/>
        </p:nvSpPr>
        <p:spPr>
          <a:xfrm>
            <a:off x="5181480" y="11430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- سبل الوقاية منها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oneTexte 9"/>
          <p:cNvSpPr/>
          <p:nvPr/>
        </p:nvSpPr>
        <p:spPr>
          <a:xfrm>
            <a:off x="1219320" y="3276720"/>
            <a:ext cx="73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الابتعاد عن كل ما يهدد الجهاز العصبي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8EE1-8CF9-4B9F-838A-A13FE04B18E7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201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ZoneTexte 7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ZoneTexte 5"/>
          <p:cNvSpPr/>
          <p:nvPr/>
        </p:nvSpPr>
        <p:spPr>
          <a:xfrm>
            <a:off x="1204920" y="291132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ماهي الأخطار المهددة للجهاز العضلي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وماهي سبل الوقاية منها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ce réservé du numéro de diapositive 1"/>
          <p:cNvSpPr/>
          <p:nvPr/>
        </p:nvSpPr>
        <p:spPr>
          <a:xfrm>
            <a:off x="0" y="649296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D45F-CF7D-4E1A-8093-CD4DC2E815BC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oneTexte 2"/>
          <p:cNvSpPr/>
          <p:nvPr/>
        </p:nvSpPr>
        <p:spPr>
          <a:xfrm>
            <a:off x="1690560" y="9428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- الأخطار المهددة للجهاز العضل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3"/>
          <p:cNvSpPr/>
          <p:nvPr/>
        </p:nvSpPr>
        <p:spPr>
          <a:xfrm>
            <a:off x="561960" y="527544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قيام بمجهود عضلي قوي يؤدي إلى تمزق عضلي حيث تفقد العضلات مرونتها وتصبح الحركات جد مؤل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211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ZoneTexte 9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Picture 11" descr="C:\Documents and Settings\Assistant\سطح المكتب\تمزق.jpg"/>
          <p:cNvPicPr/>
          <p:nvPr/>
        </p:nvPicPr>
        <p:blipFill>
          <a:blip r:embed="rId1"/>
          <a:stretch/>
        </p:blipFill>
        <p:spPr>
          <a:xfrm>
            <a:off x="2895480" y="1593720"/>
            <a:ext cx="2430720" cy="3595680"/>
          </a:xfrm>
          <a:prstGeom prst="rect">
            <a:avLst/>
          </a:prstGeom>
          <a:ln w="0">
            <a:noFill/>
          </a:ln>
        </p:spPr>
      </p:pic>
      <p:sp>
        <p:nvSpPr>
          <p:cNvPr id="217" name="Connecteur droit 13"/>
          <p:cNvSpPr/>
          <p:nvPr/>
        </p:nvSpPr>
        <p:spPr>
          <a:xfrm>
            <a:off x="4876920" y="3780000"/>
            <a:ext cx="1355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onnecteur droit 23"/>
          <p:cNvSpPr/>
          <p:nvPr/>
        </p:nvSpPr>
        <p:spPr>
          <a:xfrm flipH="1" flipV="1">
            <a:off x="3913200" y="3578400"/>
            <a:ext cx="96048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onnecteur droit 25"/>
          <p:cNvSpPr/>
          <p:nvPr/>
        </p:nvSpPr>
        <p:spPr>
          <a:xfrm flipV="1">
            <a:off x="4421160" y="3780000"/>
            <a:ext cx="452520" cy="33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oneTexte 27"/>
          <p:cNvSpPr/>
          <p:nvPr/>
        </p:nvSpPr>
        <p:spPr>
          <a:xfrm>
            <a:off x="6099120" y="3524400"/>
            <a:ext cx="14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مزق عض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ZoneTexte 28"/>
          <p:cNvSpPr/>
          <p:nvPr/>
        </p:nvSpPr>
        <p:spPr>
          <a:xfrm>
            <a:off x="0" y="6035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Arial"/>
              </a:rPr>
              <a:t>ملحوظة 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حالة حدوث تمزق عضلي يجب وضع الثلج مباشرة بعد الإصابة بالتمزق على المنطقة المصابة لإيقاف النزيف الدموي على مستوى العض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numéro de diapositive 1"/>
          <p:cNvSpPr/>
          <p:nvPr/>
        </p:nvSpPr>
        <p:spPr>
          <a:xfrm>
            <a:off x="6553080" y="6570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8B3B-092A-47BA-9931-11319FA0181A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2"/>
          <p:cNvSpPr/>
          <p:nvPr/>
        </p:nvSpPr>
        <p:spPr>
          <a:xfrm>
            <a:off x="5114880" y="94284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- سبل الوقاية منها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225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ZoneTexte 8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ZoneTexte 9"/>
          <p:cNvSpPr/>
          <p:nvPr/>
        </p:nvSpPr>
        <p:spPr>
          <a:xfrm>
            <a:off x="0" y="5943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القيام بتمارين رياضية متدرجة ومنتظمة وملائمة وفي بيئة خالية من الملوث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1" descr="C:\Documents and Settings\Assistant\سطح المكتب\sport_relief_group.jpg"/>
          <p:cNvPicPr/>
          <p:nvPr/>
        </p:nvPicPr>
        <p:blipFill>
          <a:blip r:embed="rId1"/>
          <a:stretch/>
        </p:blipFill>
        <p:spPr>
          <a:xfrm>
            <a:off x="2286000" y="1828800"/>
            <a:ext cx="497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5"/>
          <p:cNvSpPr/>
          <p:nvPr/>
        </p:nvSpPr>
        <p:spPr>
          <a:xfrm>
            <a:off x="1204920" y="291132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ماهي الأخطار المهددة للجهاز الهضمي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وماهية سبل الوقاية منها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48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ZoneTexte 15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Espace réservé du numéro de diapositiv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C22B-474C-4A25-91DB-F5B494F3D540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84CF-A143-4C4E-A9FA-9A90DB01C764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234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ZoneTexte 7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ZoneTexte 5"/>
          <p:cNvSpPr/>
          <p:nvPr/>
        </p:nvSpPr>
        <p:spPr>
          <a:xfrm>
            <a:off x="1204920" y="291132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ماهي الأخطار المهددة للجهاز التناسلي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وماهي سبل الوقاية منها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Espace réservé du numéro de diapositive 1"/>
          <p:cNvSpPr/>
          <p:nvPr/>
        </p:nvSpPr>
        <p:spPr>
          <a:xfrm>
            <a:off x="6553080" y="65991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69F4-6B3A-4A0C-9C70-BD08D0E39786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2"/>
          <p:cNvSpPr/>
          <p:nvPr/>
        </p:nvSpPr>
        <p:spPr>
          <a:xfrm>
            <a:off x="1676520" y="971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- الأخطار المهددة للجهاز التناسل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243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ZoneTexte 8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ZoneTexte 9"/>
          <p:cNvSpPr/>
          <p:nvPr/>
        </p:nvSpPr>
        <p:spPr>
          <a:xfrm>
            <a:off x="304920" y="57625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أمراض المنقولة جنسيا، فهي تنتقل من شخص مصاب إلى شريكه، أهم هذه الأمراض : السيلان (السفلس)، الكباد (الالتهاب الكبدي)، السيد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oneTexte 11"/>
          <p:cNvSpPr/>
          <p:nvPr/>
        </p:nvSpPr>
        <p:spPr>
          <a:xfrm>
            <a:off x="2362320" y="51814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خص مصاب بالسيل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C:\Documents and Settings\Assistant\سطح المكتب\uesc_09_img0520.jpg"/>
          <p:cNvPicPr/>
          <p:nvPr/>
        </p:nvPicPr>
        <p:blipFill>
          <a:blip r:embed="rId1"/>
          <a:stretch/>
        </p:blipFill>
        <p:spPr>
          <a:xfrm>
            <a:off x="1905120" y="1981080"/>
            <a:ext cx="54990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numéro de diapositive 1"/>
          <p:cNvSpPr/>
          <p:nvPr/>
        </p:nvSpPr>
        <p:spPr>
          <a:xfrm>
            <a:off x="38098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2550-C75B-47D6-89BA-1B60685A6DE6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ZoneTexte 2"/>
          <p:cNvSpPr/>
          <p:nvPr/>
        </p:nvSpPr>
        <p:spPr>
          <a:xfrm>
            <a:off x="5114880" y="95724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- سبل الوقاية منها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254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ZoneTexte 8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ZoneTexte 9"/>
          <p:cNvSpPr/>
          <p:nvPr/>
        </p:nvSpPr>
        <p:spPr>
          <a:xfrm>
            <a:off x="1371600" y="2438280"/>
            <a:ext cx="68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جنب الاتصالات الجنسية غير المشروع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ستعمال العازل الطب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خضوع للمراقبة الطبية باستمرا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إخبار الشريك الجنسي في حالة الإصاب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A921-02CC-4139-84C3-8F9C2255884C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2590920" y="19962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biodenth.be/.../syndrome-biberon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367800" y="237636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ww.womenandinfant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95800" y="2684520"/>
            <a:ext cx="30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lligenttravel.typepa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885120" y="2979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um.ma3ali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3863520" y="32400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ww.stoptabac.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3870720" y="352260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alths.roro44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268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ZoneTexte 14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15"/>
          <p:cNvSpPr/>
          <p:nvPr/>
        </p:nvSpPr>
        <p:spPr>
          <a:xfrm>
            <a:off x="3345480" y="38275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althyhomesblog.blogsp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3900960" y="4122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ww.gps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7"/>
          <p:cNvSpPr/>
          <p:nvPr/>
        </p:nvSpPr>
        <p:spPr>
          <a:xfrm>
            <a:off x="3745440" y="43718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log.vertbaudet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3886560" y="460836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ww.thewe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3886200" y="49197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ww.bbc.co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9"/>
          <p:cNvSpPr/>
          <p:nvPr/>
        </p:nvSpPr>
        <p:spPr>
          <a:xfrm>
            <a:off x="3740400" y="51894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ww.alkomate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0"/>
          <p:cNvSpPr/>
          <p:nvPr/>
        </p:nvSpPr>
        <p:spPr>
          <a:xfrm>
            <a:off x="2297160" y="552924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ttp://www.ammannet.net/images/cms-image-00001601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oneTexte 21"/>
          <p:cNvSpPr/>
          <p:nvPr/>
        </p:nvSpPr>
        <p:spPr>
          <a:xfrm>
            <a:off x="2209680" y="121932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Arial"/>
              </a:rPr>
              <a:t>REFERENCES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المراجع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2"/>
          <p:cNvSpPr/>
          <p:nvPr/>
        </p:nvSpPr>
        <p:spPr>
          <a:xfrm>
            <a:off x="1600200" y="5867280"/>
            <a:ext cx="670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ttp://www.scienceclarified.com/images/uesc_09_img052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10"/>
          <p:cNvSpPr/>
          <p:nvPr/>
        </p:nvSpPr>
        <p:spPr>
          <a:xfrm>
            <a:off x="6539040" y="6570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6D01-C901-42CB-8A25-38F12D915BAE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56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ZoneTexte 19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ZoneTexte 20"/>
          <p:cNvSpPr/>
          <p:nvPr/>
        </p:nvSpPr>
        <p:spPr>
          <a:xfrm>
            <a:off x="1676520" y="9428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- الأخطار المهددة للجهاز الهضم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22"/>
          <p:cNvSpPr/>
          <p:nvPr/>
        </p:nvSpPr>
        <p:spPr>
          <a:xfrm>
            <a:off x="7481880" y="150984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2d050"/>
                </a:solidFill>
                <a:latin typeface="Arial"/>
              </a:rPr>
              <a:t>أ- التسو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23"/>
          <p:cNvSpPr/>
          <p:nvPr/>
        </p:nvSpPr>
        <p:spPr>
          <a:xfrm>
            <a:off x="533520" y="5924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نتج التسوس عن بكتيريات تعيش في الفم، حيث تحول السكريات إلى أحماض تحطم بنية الأسنان الشيء الذي ينعكس سلبا على المضغ والهضم المعد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:\Documents and Settings\Assistant\سطح المكتب\caries-biberons2.jpg"/>
          <p:cNvPicPr/>
          <p:nvPr/>
        </p:nvPicPr>
        <p:blipFill>
          <a:blip r:embed="rId1"/>
          <a:stretch/>
        </p:blipFill>
        <p:spPr>
          <a:xfrm>
            <a:off x="2362320" y="1790640"/>
            <a:ext cx="5073480" cy="347976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24"/>
          <p:cNvSpPr/>
          <p:nvPr/>
        </p:nvSpPr>
        <p:spPr>
          <a:xfrm>
            <a:off x="3357720" y="5272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سنان مصابة بالتسو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1"/>
          <p:cNvSpPr/>
          <p:nvPr/>
        </p:nvSpPr>
        <p:spPr>
          <a:xfrm>
            <a:off x="6553080" y="6556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B1EF-E959-4957-9C89-9BEF31F3008A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68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ZoneTexte 7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ZoneTexte 8"/>
          <p:cNvSpPr/>
          <p:nvPr/>
        </p:nvSpPr>
        <p:spPr>
          <a:xfrm>
            <a:off x="6705720" y="99072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2d050"/>
                </a:solidFill>
                <a:latin typeface="Arial"/>
              </a:rPr>
              <a:t>ب- القرح المعد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9"/>
          <p:cNvSpPr/>
          <p:nvPr/>
        </p:nvSpPr>
        <p:spPr>
          <a:xfrm>
            <a:off x="2557440" y="586728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نتج القرح المعدية عن تناول الكحو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e 14"/>
          <p:cNvGrpSpPr/>
          <p:nvPr/>
        </p:nvGrpSpPr>
        <p:grpSpPr>
          <a:xfrm>
            <a:off x="2089080" y="1809720"/>
            <a:ext cx="5149800" cy="3443400"/>
            <a:chOff x="2089080" y="1809720"/>
            <a:chExt cx="5149800" cy="3443400"/>
          </a:xfrm>
        </p:grpSpPr>
        <p:pic>
          <p:nvPicPr>
            <p:cNvPr id="76" name="Picture 2" descr="C:\Documents and Settings\Assistant\سطح المكتب\si1454.jpg"/>
            <p:cNvPicPr/>
            <p:nvPr/>
          </p:nvPicPr>
          <p:blipFill>
            <a:blip r:embed="rId1"/>
            <a:stretch/>
          </p:blipFill>
          <p:spPr>
            <a:xfrm>
              <a:off x="2089080" y="1809720"/>
              <a:ext cx="5149800" cy="33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ZoneTexte 12"/>
            <p:cNvSpPr/>
            <p:nvPr/>
          </p:nvSpPr>
          <p:spPr>
            <a:xfrm>
              <a:off x="2814480" y="46105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المعد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ZoneTexte 13"/>
            <p:cNvSpPr/>
            <p:nvPr/>
          </p:nvSpPr>
          <p:spPr>
            <a:xfrm>
              <a:off x="4410000" y="3110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قرحة معد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Espace réservé du numéro de diapositive 1"/>
          <p:cNvSpPr/>
          <p:nvPr/>
        </p:nvSpPr>
        <p:spPr>
          <a:xfrm>
            <a:off x="6567480" y="6585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60C4-A1D6-424F-AB31-DE3C0CC8A185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81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ZoneTexte 7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ZoneTexte 8"/>
          <p:cNvSpPr/>
          <p:nvPr/>
        </p:nvSpPr>
        <p:spPr>
          <a:xfrm>
            <a:off x="7453440" y="9810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2d050"/>
                </a:solidFill>
                <a:latin typeface="Arial"/>
              </a:rPr>
              <a:t>ج- الإسه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9"/>
          <p:cNvSpPr/>
          <p:nvPr/>
        </p:nvSpPr>
        <p:spPr>
          <a:xfrm>
            <a:off x="762120" y="6172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نتج الإسهال غالبا عن أغذية ملوثة بالجراثيم وعن عدم تنظيف اليدين قبل الأك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C:\Documents and Settings\Assistant\سطح المكتب\Image1 copy.jpg"/>
          <p:cNvPicPr/>
          <p:nvPr/>
        </p:nvPicPr>
        <p:blipFill>
          <a:blip r:embed="rId1"/>
          <a:stretch/>
        </p:blipFill>
        <p:spPr>
          <a:xfrm>
            <a:off x="3124080" y="1401840"/>
            <a:ext cx="30607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Espace réservé du numéro de diapositive 1"/>
          <p:cNvSpPr/>
          <p:nvPr/>
        </p:nvSpPr>
        <p:spPr>
          <a:xfrm>
            <a:off x="6553080" y="6570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A44E-B1ED-42EC-B87B-7F311774348C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91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ZoneTexte 7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ZoneTexte 9"/>
          <p:cNvSpPr/>
          <p:nvPr/>
        </p:nvSpPr>
        <p:spPr>
          <a:xfrm>
            <a:off x="7396200" y="10098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2d050"/>
                </a:solidFill>
                <a:latin typeface="Arial"/>
              </a:rPr>
              <a:t>د- الإمسا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10"/>
          <p:cNvSpPr/>
          <p:nvPr/>
        </p:nvSpPr>
        <p:spPr>
          <a:xfrm>
            <a:off x="533520" y="57150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نتج الإمساك  في الغالب عن تناول أغذية تفتقر إلى الألياف المتواجدة أساسا في الخضر والفواكه وعدم شرب كميات كافية من الما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C:\Documents and Settings\Assistant\سطح المكتب\5.gif"/>
          <p:cNvPicPr/>
          <p:nvPr/>
        </p:nvPicPr>
        <p:blipFill>
          <a:blip r:embed="rId1"/>
          <a:stretch/>
        </p:blipFill>
        <p:spPr>
          <a:xfrm>
            <a:off x="2057400" y="16002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numéro de diapositive 1"/>
          <p:cNvSpPr/>
          <p:nvPr/>
        </p:nvSpPr>
        <p:spPr>
          <a:xfrm>
            <a:off x="6781680" y="65674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089F-FCD9-4EBB-80B4-1AEE73C611E3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101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ZoneTexte 7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ZoneTexte 8"/>
          <p:cNvSpPr/>
          <p:nvPr/>
        </p:nvSpPr>
        <p:spPr>
          <a:xfrm>
            <a:off x="4952880" y="9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- سبل الوقاية من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9"/>
          <p:cNvSpPr/>
          <p:nvPr/>
        </p:nvSpPr>
        <p:spPr>
          <a:xfrm>
            <a:off x="1030320" y="1282680"/>
            <a:ext cx="80773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2d050"/>
                </a:solidFill>
                <a:latin typeface="Arial"/>
              </a:rPr>
              <a:t>لتجنب التسوس يجب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تفادي تناول الحلويات باستمر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تفادي شرب المشروبات الحلوة طيلة النه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التنظيف السليم للأسنان كل يوم بمعجون غني بالفلي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2d050"/>
                </a:solidFill>
                <a:latin typeface="Arial"/>
              </a:rPr>
              <a:t>لتجنب القرح المعدية يجب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 - تفادي تناول الأدوية بدون استشارة الطبي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تفادي المشروبات الكحو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2d050"/>
                </a:solidFill>
                <a:latin typeface="Arial"/>
              </a:rPr>
              <a:t>لتجنب الإسهال والإمساك يجب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تجنب استهلاك المياه غير الصالحة للشر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غسل الخضر والفواكه جيد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تناول أغذية طرية وغير ملوث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تجنب تناول الطعام في عجلة لأن ذلك يضر بعمل الجهاز الهضم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تناول طعام غني بالخضر والفواك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شرب كميات كافية من الما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نظافة اليدين قبل الأكل وبعد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49A0-FF1E-44F3-B10F-123F7F864E26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110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ZoneTexte 7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ZoneTexte 5"/>
          <p:cNvSpPr/>
          <p:nvPr/>
        </p:nvSpPr>
        <p:spPr>
          <a:xfrm>
            <a:off x="1204920" y="291132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ماهي الأخطار المهددة للجهاز التنفسي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وماهي سبل الوقاية منها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1"/>
          <p:cNvSpPr/>
          <p:nvPr/>
        </p:nvSpPr>
        <p:spPr>
          <a:xfrm>
            <a:off x="4724280" y="6492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65A7-9409-40A7-9376-0272E6198467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e 16"/>
          <p:cNvGrpSpPr/>
          <p:nvPr/>
        </p:nvGrpSpPr>
        <p:grpSpPr>
          <a:xfrm>
            <a:off x="2514600" y="160200"/>
            <a:ext cx="6567480" cy="859680"/>
            <a:chOff x="2514600" y="160200"/>
            <a:chExt cx="6567480" cy="859680"/>
          </a:xfrm>
        </p:grpSpPr>
        <p:sp>
          <p:nvSpPr>
            <p:cNvPr id="118" name="Titre 1"/>
            <p:cNvSpPr/>
            <p:nvPr/>
          </p:nvSpPr>
          <p:spPr>
            <a:xfrm>
              <a:off x="8077320" y="178920"/>
              <a:ext cx="968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ادة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n-US" sz="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ZoneTexte 7"/>
            <p:cNvSpPr/>
            <p:nvPr/>
          </p:nvSpPr>
          <p:spPr>
            <a:xfrm>
              <a:off x="7010640" y="1602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علوم الحياة والأر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itre 1"/>
            <p:cNvSpPr/>
            <p:nvPr/>
          </p:nvSpPr>
          <p:spPr>
            <a:xfrm>
              <a:off x="8229600" y="569880"/>
              <a:ext cx="852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المستوى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ZoneTexte 9"/>
            <p:cNvSpPr/>
            <p:nvPr/>
          </p:nvSpPr>
          <p:spPr>
            <a:xfrm>
              <a:off x="6934320" y="5608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Calibri"/>
                </a:rPr>
                <a:t>الثالثة ثانوي إعداد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ZoneTexte 7"/>
            <p:cNvSpPr/>
            <p:nvPr/>
          </p:nvSpPr>
          <p:spPr>
            <a:xfrm>
              <a:off x="2514600" y="255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376092"/>
                  </a:solidFill>
                  <a:latin typeface="Arial"/>
                </a:rPr>
                <a:t>صحة الجس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ZoneTexte 8"/>
          <p:cNvSpPr/>
          <p:nvPr/>
        </p:nvSpPr>
        <p:spPr>
          <a:xfrm>
            <a:off x="1676520" y="9428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- الأخطار المهددة للجهاز التنفس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9"/>
          <p:cNvSpPr/>
          <p:nvPr/>
        </p:nvSpPr>
        <p:spPr>
          <a:xfrm>
            <a:off x="85680" y="6072120"/>
            <a:ext cx="905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عض ملوثات الهواء الناتجة عن الأنشطة الصناعية تؤدي إلى التهاب القصبات الهوائية و الإصابة بالرب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Documents and Settings\Assistant\سطح المكتب\air-pollution-systems.jpg"/>
          <p:cNvPicPr/>
          <p:nvPr/>
        </p:nvPicPr>
        <p:blipFill>
          <a:blip r:embed="rId1"/>
          <a:stretch/>
        </p:blipFill>
        <p:spPr>
          <a:xfrm>
            <a:off x="2590920" y="1652760"/>
            <a:ext cx="49910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</cp:lastModifiedBy>
  <dcterms:modified xsi:type="dcterms:W3CDTF">2009-05-11T10:30:13Z</dcterms:modified>
  <cp:revision>2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